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CBE9-1900-4E0F-8A29-7E10926D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D1E-980B-4D78-A7AA-84662860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7F8-DAC0-4E6D-B854-05D8E011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E2F-24BD-4C5E-9335-CAADEBEB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BFC-42FD-4420-A332-336944AC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BBC-E188-4916-986F-027F9E90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F47-0995-49DD-AC47-ECB80DF9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1DB3-1AF3-4CEB-8638-AE803B49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AAA-9738-4773-816B-237480E8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1CE-1DB9-4535-9F78-45BBB9A1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A42-B53B-4EAB-BF7D-9E1E2F1D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C9E-A51C-409F-AE94-42A369A8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7006-1CF8-40B2-95B1-A5DA0A00D404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Good morn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DI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Whose plane is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ossessive form (‘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Is it really his/h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ossessive prono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Is it really you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ossessive prono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Who made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Reflexive prono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Mijn film.wmv" descr=""/>
          <p:cNvPicPr/>
          <p:nvPr/>
        </p:nvPicPr>
        <p:blipFill>
          <a:blip r:embed="rId1"/>
          <a:stretch/>
        </p:blipFill>
        <p:spPr>
          <a:xfrm>
            <a:off x="1017720" y="620640"/>
            <a:ext cx="7299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xercise 21, WB p. 4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92360" y="1773360"/>
          <a:ext cx="2016000" cy="338436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55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rsonal 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708360" y="4869000"/>
          <a:ext cx="4033800" cy="34740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m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ich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708360" y="1773360"/>
          <a:ext cx="4033800" cy="91116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55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lexive 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l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y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z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706920" y="2708280"/>
          <a:ext cx="4033800" cy="42552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ou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je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708360" y="3075120"/>
          <a:ext cx="4033800" cy="35388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m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ich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708360" y="3429000"/>
          <a:ext cx="4033800" cy="35388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ich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708360" y="3789360"/>
          <a:ext cx="4033800" cy="35388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t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ich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708360" y="4149720"/>
          <a:ext cx="4033800" cy="35388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s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708360" y="4508640"/>
          <a:ext cx="3672000" cy="353880"/>
        </p:xfrm>
        <a:graphic>
          <a:graphicData uri="http://schemas.openxmlformats.org/drawingml/2006/table">
            <a:tbl>
              <a:tblPr/>
              <a:tblGrid>
                <a:gridCol w="2016000"/>
                <a:gridCol w="1656000"/>
              </a:tblGrid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je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xample sen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Den John’ shaves every day.                                            He has to stay ‘soft’ for Astri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I had to wash in cold water this morning. The shower was brok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When I hear someone is coming over to visit, I hurry to clean my roo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I overslept; woke up at 8.15 a.m. today. I’ve never dressed that quickly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lindamagazine.nl/wp-content/files_flutter/1306756124Afbeelding9.png"/>
          <p:cNvPicPr/>
          <p:nvPr/>
        </p:nvPicPr>
        <p:blipFill>
          <a:blip r:embed="rId1"/>
          <a:stretch/>
        </p:blipFill>
        <p:spPr>
          <a:xfrm>
            <a:off x="6156360" y="1341360"/>
            <a:ext cx="2259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xercise 22, WB p. 47 (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y name is Andy Mann and I’d like to tell you a little about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ysel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 come from a pretty strange family. You see, we do everything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ourselves</a:t>
            </a:r>
            <a:r>
              <a:rPr b="1" lang="en-GB" sz="1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 years ago, my parents built this house all by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themselv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y dad also made all the furnitur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imself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nd my mum painted every door, every window and every wall in the house all by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ersel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y parents always tell us: ‘Kids, you have to know how to take care of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yourselv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’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hthoek 3"/>
          <p:cNvSpPr/>
          <p:nvPr/>
        </p:nvSpPr>
        <p:spPr>
          <a:xfrm>
            <a:off x="7236000" y="1484280"/>
            <a:ext cx="792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hthoek 4"/>
          <p:cNvSpPr/>
          <p:nvPr/>
        </p:nvSpPr>
        <p:spPr>
          <a:xfrm>
            <a:off x="539640" y="2637000"/>
            <a:ext cx="151128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hthoek 5"/>
          <p:cNvSpPr/>
          <p:nvPr/>
        </p:nvSpPr>
        <p:spPr>
          <a:xfrm>
            <a:off x="5867280" y="3429000"/>
            <a:ext cx="13687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hthoek 6"/>
          <p:cNvSpPr/>
          <p:nvPr/>
        </p:nvSpPr>
        <p:spPr>
          <a:xfrm>
            <a:off x="4500720" y="4221000"/>
            <a:ext cx="93492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hthoek 7"/>
          <p:cNvSpPr/>
          <p:nvPr/>
        </p:nvSpPr>
        <p:spPr>
          <a:xfrm>
            <a:off x="7020000" y="4581360"/>
            <a:ext cx="792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hthoek 8"/>
          <p:cNvSpPr/>
          <p:nvPr/>
        </p:nvSpPr>
        <p:spPr>
          <a:xfrm>
            <a:off x="900000" y="5805360"/>
            <a:ext cx="1224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xercise 22, WB p. 47 (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o, from a very early age we had to prepare our meals, clean our rooms, do the laundry and stuff like that all by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ourselves</a:t>
            </a:r>
            <a:r>
              <a:rPr b="1" lang="en-GB" sz="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 We never went to schoo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e taught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ourselv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everything we kno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y older brother is even teaching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imsel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drive right no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ometimes people ask me: ‘Isn’t there anything you can’t do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yoursel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?’ Honestly, I don’t think there 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hoek 3"/>
          <p:cNvSpPr/>
          <p:nvPr/>
        </p:nvSpPr>
        <p:spPr>
          <a:xfrm>
            <a:off x="6156360" y="2133720"/>
            <a:ext cx="115236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hthoek 4"/>
          <p:cNvSpPr/>
          <p:nvPr/>
        </p:nvSpPr>
        <p:spPr>
          <a:xfrm>
            <a:off x="1763640" y="3284640"/>
            <a:ext cx="115272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5"/>
          <p:cNvSpPr/>
          <p:nvPr/>
        </p:nvSpPr>
        <p:spPr>
          <a:xfrm>
            <a:off x="4427640" y="4005360"/>
            <a:ext cx="8650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hthoek 6"/>
          <p:cNvSpPr/>
          <p:nvPr/>
        </p:nvSpPr>
        <p:spPr>
          <a:xfrm>
            <a:off x="755640" y="5229360"/>
            <a:ext cx="107964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xercise 22, WB p. 47 (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1. We have to hurry or we’ll miss our bus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3. I was ill, but I feel much better now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4. My brother doesn’t shave every day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</a:rPr>
              <a:t>8. My brother behaved very badly in class. He had to stay after schoo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</a:rPr>
              <a:t>10. I don’t remember where I left my bike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xercise 22, WB p. 47 (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2. My children baked a cake this afternoon; they are very proud of 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themselves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. I hurt 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myself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when I jumped over the g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. We enjoyed 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ourselves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very much at the disco last nigh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7. Ann and Liz, do you always pay for your phone cards 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yourselves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9. My dad doesn’t need any help; he can fix everything 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himself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DI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s://diy.org/saxon/000b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12:51:31Z</dcterms:created>
  <dc:creator>Gebruiker</dc:creator>
  <dc:description/>
  <dc:language>en-US</dc:language>
  <cp:lastModifiedBy>Elise</cp:lastModifiedBy>
  <dcterms:modified xsi:type="dcterms:W3CDTF">2012-11-16T06:43:59Z</dcterms:modified>
  <cp:revision>12</cp:revision>
  <dc:subject/>
  <dc:title>Good morning!</dc:title>
</cp:coreProperties>
</file>